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2CC2-6C89-4545-9180-4D13FE2C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2F49-D9E2-4D72-A9A8-C83AF15EA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D7DE-987B-4346-8603-4E7AF956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CFC2-0123-44A6-A44D-BA926F750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C7CA-518E-4FAC-A7C4-0972E1E23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BBF7-F50F-40A3-AB5F-6C922848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1405-4C4A-4BE2-97FB-5947A05F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293-D288-4F44-9E13-F4053114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7B1-BA4A-4572-92FF-8A3BC834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991-FFEC-4380-A9F4-3733983D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F9C-9ED4-4E50-B664-55072852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3920" y="142920"/>
            <a:ext cx="747252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58B-3790-4ACF-AAA6-228B9149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294-8BBC-4970-BD08-D0D94158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710-0273-4C3A-8B8A-940436D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744-016E-4B50-88D1-B0F0A700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3920" y="142920"/>
            <a:ext cx="747252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344-51BA-4A2A-8A75-BB94E252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650-8E8E-4BF1-90DA-9AF2A0EE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BA4-AA39-4C63-A27D-9D092963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D04-0C9A-4C30-B75D-0F0BEEC6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C6EC-1EC6-4344-8EA6-F4D8B41DE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odi_circle_logo_blue.jpg"/>
          <p:cNvPicPr/>
          <p:nvPr/>
        </p:nvPicPr>
        <p:blipFill>
          <a:blip r:embed="rId2"/>
          <a:stretch/>
        </p:blipFill>
        <p:spPr>
          <a:xfrm>
            <a:off x="214200" y="21420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odi_circle_logo_blue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2920" y="1628280"/>
            <a:ext cx="42865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Interview techniques &amp; tips</a:t>
            </a:r>
            <a:endParaRPr b="0" lang="en-US" sz="40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427032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MetaMedium-Roman"/>
              </a:rPr>
              <a:t>CPWF Training Workshop, 8- 12 November 201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4572000" y="3068640"/>
            <a:ext cx="370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3920" y="131400"/>
            <a:ext cx="74725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Franklin Gothic Medium"/>
              </a:rPr>
              <a:t>Group work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56840"/>
            <a:ext cx="8362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nk about your own experience of conducting interviews or focus groups: the techniques you used, what worked well and what didn’t work so well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ainstorm  ‘Dos and Don’ts’ for interviews on how to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roduce yourself and the researc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age expecta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tain unbiased answer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t all the details and information you need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y other ways to make interviews successfu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3920" y="131400"/>
            <a:ext cx="74725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alibri"/>
              </a:rPr>
              <a:t>Interview dos and don’ts</a:t>
            </a:r>
            <a:endParaRPr b="0" lang="en-US" sz="32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395280" y="12492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572000" y="1197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859280" y="1844640"/>
            <a:ext cx="3960720" cy="3305520"/>
          </a:xfrm>
          <a:prstGeom prst="rect">
            <a:avLst/>
          </a:prstGeom>
          <a:solidFill>
            <a:srgbClr val="c0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interrupt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informants or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ask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leading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ccept the first answer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open-ended questions: probe for more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supply answer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an informant who is hesita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indicate disbelief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y criticising or even just smi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show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disapprov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r distaste about local conditions or drinks or food off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95280" y="1792440"/>
            <a:ext cx="4176720" cy="4473360"/>
          </a:xfrm>
          <a:prstGeom prst="rect">
            <a:avLst/>
          </a:prstGeom>
          <a:solidFill>
            <a:srgbClr val="00b05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elaxed </a:t>
            </a:r>
            <a:r>
              <a:rPr b="0" lang="en-GB" sz="1600" spc="-1" strike="noStrike">
                <a:solidFill>
                  <a:srgbClr val="15095f"/>
                </a:solidFill>
                <a:latin typeface="Calibri"/>
              </a:rPr>
              <a:t>and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 op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ry to put people at e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plain clearly who you are and your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objective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roduce what the interview will cover and roughly how long it will t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 aware tha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body language and seating arrangement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will affect the inter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Explai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each question clearly, check the respondent has understood, and rephrase it if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open-ended questions, probe for more information using the six helpers: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what, when, where, who, why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how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ctive listening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3920" y="131400"/>
            <a:ext cx="74725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Interview dos and don’ts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95280" y="11779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572000" y="11048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43280" y="1844640"/>
            <a:ext cx="3961080" cy="2721600"/>
          </a:xfrm>
          <a:prstGeom prst="rect">
            <a:avLst/>
          </a:prstGeom>
          <a:solidFill>
            <a:srgbClr val="c0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ask questions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that combine two querie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e.g. “Are you involved in planning soil water conservation and how effective do you think the process is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ever let the informant feel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cross-examin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ask abou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sensitive informatio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front of a group of onloo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95280" y="1792440"/>
            <a:ext cx="4032360" cy="4473360"/>
          </a:xfrm>
          <a:prstGeom prst="rect">
            <a:avLst/>
          </a:prstGeom>
          <a:solidFill>
            <a:srgbClr val="00b05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nsider responses: are they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fact, opinio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umour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Query response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at seem irrational or unlik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valuate th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eliabil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f the inter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ke a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neutral attitud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liste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carefully and pay attention to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non-verbal sign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open-minde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about answers you did not exp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 prepared for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goo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 ba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views. If it is going badly, conclude politely and le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fore each interview,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identify knowledge ga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in order to focus on these iss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3920" y="131400"/>
            <a:ext cx="74725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Focus Group dos and don’ts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95280" y="11239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0" y="1052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643280" y="1700280"/>
            <a:ext cx="3961080" cy="2429640"/>
          </a:xfrm>
          <a:prstGeom prst="rect">
            <a:avLst/>
          </a:prstGeom>
          <a:solidFill>
            <a:srgbClr val="c0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Combine too many topic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one focus group: stick to one su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let the discussion go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off topic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(e.g. use a ‘parking lot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allow a few participants to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dominate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onversation or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intimidat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volve more than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10-12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395280" y="1628640"/>
            <a:ext cx="4032360" cy="3889440"/>
          </a:xfrm>
          <a:prstGeom prst="rect">
            <a:avLst/>
          </a:prstGeom>
          <a:solidFill>
            <a:srgbClr val="00b05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sk and encourag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ll participant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speak and give their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ground rule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participants should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not talk over each other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llow the group time to discus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questions and challenge each others’ ideas. This is a way for mistakes to be corrected, and for different views to come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Stay focuse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make sure you cover the check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eflect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back on whether the group dynamic was successful. If not, change it nex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3920" y="260280"/>
            <a:ext cx="7472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op tip #1 Always probe for more information!</a:t>
            </a:r>
            <a:endParaRPr b="0" lang="en-US" sz="28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10" name="TextBox 38"/>
          <p:cNvSpPr/>
          <p:nvPr/>
        </p:nvSpPr>
        <p:spPr>
          <a:xfrm>
            <a:off x="539640" y="3379680"/>
            <a:ext cx="7777440" cy="320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asking </a:t>
            </a:r>
            <a:r>
              <a:rPr b="1" lang="en-US" sz="1800" spc="-1" strike="noStrike">
                <a:solidFill>
                  <a:srgbClr val="15095f"/>
                </a:solidFill>
                <a:latin typeface="Calibri"/>
              </a:rPr>
              <a:t>open-end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questions, the first answer given does not usually tell you the whole st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e for more information using the </a:t>
            </a:r>
            <a:r>
              <a:rPr b="1" lang="en-US" sz="1800" spc="-1" strike="noStrike">
                <a:solidFill>
                  <a:srgbClr val="15095f"/>
                </a:solidFill>
                <a:latin typeface="Calibri"/>
              </a:rPr>
              <a:t>six help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1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2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3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4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5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6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66560" y="1268280"/>
            <a:ext cx="835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15095f"/>
                </a:solidFill>
                <a:latin typeface="Calibri"/>
              </a:rPr>
              <a:t>Questionnaires and checklists may consist of closed-ended or open-ended questions, or a mix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Closed-ended question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courage a short or single-word answer, e.g. Yes o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Open-ended question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re designed to encourage a full, meaningful answer using the subject's own knowledge and/or feeling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4280" y="131400"/>
            <a:ext cx="7678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op tip #2 Challenge contradictory or unclear answers</a:t>
            </a:r>
            <a:endParaRPr b="0" lang="en-US" sz="28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560" y="119664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5095f"/>
                </a:solidFill>
                <a:latin typeface="Calibri"/>
              </a:rPr>
              <a:t>If you are given information which is unclear or seems contradictory, challenge the respondent to clarify (politely of course!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t could be because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You have misunderstood the respons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are other factors which you are not aware of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misunderstood the ques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does not really know the answer, is guessing or is not being truthfu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iques for clarifying during the interview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509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Double check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understood the question, and if necessary ask the same question in a different way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509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sk for example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ich illustrate their answer, or suggest one yourself: ‘Suppose that…’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509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Summaris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their answer back to them to make sure you have understood it correctly: ‘Let me check I have understood what you are saying…’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509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eassure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that they do not have to answer every question if they don’t know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learly explaining the purpose of the interview at the start, and putting the interviewee at ease, both help to avoid untruthful answers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5:16:31Z</dcterms:created>
  <dc:creator>pleask</dc:creator>
  <dc:description/>
  <dc:language>en-US</dc:language>
  <cp:lastModifiedBy>kergano</cp:lastModifiedBy>
  <cp:lastPrinted>2006-04-07T10:19:46Z</cp:lastPrinted>
  <dcterms:modified xsi:type="dcterms:W3CDTF">2010-11-09T12:37:49Z</dcterms:modified>
  <cp:revision>106</cp:revision>
  <dc:subject/>
  <dc:title>Overseas Development Institu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">
    <vt:lpwstr>0</vt:lpwstr>
  </property>
  <property fmtid="{D5CDD505-2E9C-101B-9397-08002B2CF9AE}" pid="3" name="Audience">
    <vt:lpwstr>1</vt:lpwstr>
  </property>
  <property fmtid="{D5CDD505-2E9C-101B-9397-08002B2CF9AE}" pid="4" name="Category 2">
    <vt:lpwstr>General</vt:lpwstr>
  </property>
  <property fmtid="{D5CDD505-2E9C-101B-9397-08002B2CF9AE}" pid="5" name="Category0">
    <vt:lpwstr>Outputs</vt:lpwstr>
  </property>
  <property fmtid="{D5CDD505-2E9C-101B-9397-08002B2CF9AE}" pid="6" name="ContentType">
    <vt:lpwstr>Document</vt:lpwstr>
  </property>
  <property fmtid="{D5CDD505-2E9C-101B-9397-08002B2CF9AE}" pid="7" name="Country">
    <vt:lpwstr>(none)</vt:lpwstr>
  </property>
  <property fmtid="{D5CDD505-2E9C-101B-9397-08002B2CF9AE}" pid="8" name="Description0">
    <vt:lpwstr>Powerpoint template for staff</vt:lpwstr>
  </property>
  <property fmtid="{D5CDD505-2E9C-101B-9397-08002B2CF9AE}" pid="9" name="Key">
    <vt:lpwstr>0</vt:lpwstr>
  </property>
  <property fmtid="{D5CDD505-2E9C-101B-9397-08002B2CF9AE}" pid="10" name="Source">
    <vt:lpwstr>Staff</vt:lpwstr>
  </property>
  <property fmtid="{D5CDD505-2E9C-101B-9397-08002B2CF9AE}" pid="11" name="Status">
    <vt:lpwstr>Final</vt:lpwstr>
  </property>
  <property fmtid="{D5CDD505-2E9C-101B-9397-08002B2CF9AE}" pid="12" name="Target Audiences">
    <vt:lpwstr/>
  </property>
  <property fmtid="{D5CDD505-2E9C-101B-9397-08002B2CF9AE}" pid="13" name="Theme">
    <vt:lpwstr/>
  </property>
  <property fmtid="{D5CDD505-2E9C-101B-9397-08002B2CF9AE}" pid="14" name="World Region">
    <vt:lpwstr>(none)</vt:lpwstr>
  </property>
</Properties>
</file>